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7088400" cy="10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cess synchron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17"/>
          </p:nvPr>
        </p:nvSpPr>
        <p:spPr>
          <a:xfrm>
            <a:off x="4012920" y="0"/>
            <a:ext cx="3089160" cy="50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Img"/>
          </p:nvPr>
        </p:nvSpPr>
        <p:spPr>
          <a:xfrm>
            <a:off x="974880" y="755640"/>
            <a:ext cx="5148000" cy="386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body"/>
          </p:nvPr>
        </p:nvSpPr>
        <p:spPr>
          <a:xfrm>
            <a:off x="925560" y="4865400"/>
            <a:ext cx="5248080" cy="4616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18"/>
          </p:nvPr>
        </p:nvSpPr>
        <p:spPr>
          <a:xfrm>
            <a:off x="-360" y="9734400"/>
            <a:ext cx="308772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© 2005 William Fornac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 type="sldNum" idx="19"/>
          </p:nvPr>
        </p:nvSpPr>
        <p:spPr>
          <a:xfrm>
            <a:off x="4012920" y="9734400"/>
            <a:ext cx="308916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EA1C704-3CBC-4D67-9345-B4CDEC8B5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2"/>
          <p:cNvSpPr/>
          <p:nvPr/>
        </p:nvSpPr>
        <p:spPr>
          <a:xfrm>
            <a:off x="0" y="0"/>
            <a:ext cx="3087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cess synchronization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4013280" y="0"/>
            <a:ext cx="3089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perating System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0" y="9734400"/>
            <a:ext cx="30877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© 2005 William Fornaciari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4013280" y="9734400"/>
            <a:ext cx="30891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41E8AD6-05F5-44FD-9B1B-0B2183E07D0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74880" y="755640"/>
            <a:ext cx="5148000" cy="3860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25560" y="4865400"/>
            <a:ext cx="524808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A639-A5BD-411F-B92E-0E227F122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71E8-31FD-4EE2-BF9B-E1FDFBC43A9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C50D-1086-4FA1-9E67-5E5CBC33850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5CD58-3D27-4527-8625-B2A1C42B4E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172D-771F-461C-8516-DCC89DDD95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231A0-F217-46E8-9F14-E792CF8A7A0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2D9F-3E77-4516-8EEA-39696AF0FD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BEFC-AF08-49A3-9569-CEEA4E34313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667A2-15FC-4B8F-80C0-F4BD1829A5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B31E-8D98-4ABF-8B6C-879BF410E5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153F-3F5A-4927-BCEA-0320BE5FD5C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72F3E4-E0DA-4382-8805-0103177EC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CAB4-758B-41D4-A810-0BFB8EF134B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AB46D7-798C-4375-9E6F-41D4199C36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C731E0-3A76-4948-8DE9-C3BF77E064C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FAD0E8-2B3F-43B1-A0A9-DB58ED2CCB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21C96-79B6-4325-B050-67B7688A82B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708BD-EE6A-4382-96E1-9A2F6F7585D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4720F-63A4-45A5-B07F-CF9CC0A2BB2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570DD9-E90A-4552-85B2-52066B810B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A4D2D6-B42C-47B5-93D8-918DFB3BC55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C90B57-1862-4CD8-B6AD-E3BACE3DA9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CAD724-651E-449C-9DFF-3CC9ACB48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EE00-BBEB-4F4F-BAF0-B918142B13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513695-CF26-40DA-B703-5338F8D22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5EFD-1F42-45A5-B4EE-2B1CB777B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614-6E47-4902-91F9-FE2C782ED0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F71-50D7-43B7-876D-4DE758BC81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246-73EF-4AB6-865D-E41582A570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7C7-B859-4F82-985D-C4191AD659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4E9-784D-45E9-A637-2A03E8D7D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EB74-9E35-417D-9D70-1CD3A31E0E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5D4-7873-4354-8BAC-4F8AD7F790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DF5-6486-497A-998E-52F162ACF3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DB7-A94C-44A7-B4B3-CAFD7E7598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46FD-ED2A-4621-8D50-AD97C71E56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356-3D71-4395-916E-7F19FFF05C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C9F-8B95-4AD8-B5C3-E870488D01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272-048E-481A-8641-B0FDFF265A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8607F-5E1D-4873-81D0-F929C8EE1E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C9512-9D7D-438F-BA34-C6E81E3B5F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E1946-7C85-4239-9DFD-C6E043702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CFE3-910F-4B13-A3C7-E6639BEEFB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8BF6A-7296-47F5-AD12-B4984A427C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933F-5706-4FC2-ABC3-B5B537405A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88B31-9BD8-47B5-8A3E-AEF29F5B7A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973AE-42B4-4523-9993-A632EA2DAD8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4CDF0-814C-4092-A90E-F7CBEA757D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39922-B641-4F82-9DC0-93B8BC9FB5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17DF9-0AAB-4F6C-9530-370609C0BB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96F28-8060-4635-AA85-BB48E089C4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2605F-3912-469A-8C2B-6F3504BE3C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42A7A-C6B7-49A9-8C69-CA560DE77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B4B9-C243-4899-AAD2-1B6415A36E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9D6CF-911D-4B0E-B91A-FB23591D3F5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0D7FA-7363-4779-B45F-605645A8C83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2929C-2F12-449D-84FA-DE66CAC8C8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A2236-C717-4C05-8761-1A47F58F3B9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2B0FB9-BD09-4005-A825-D32B33BDAF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C19DB-1B54-4942-AFE7-3AC05F8BDFF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C0686-011C-4557-B994-9C22DDC4D4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E92116-0899-4C6D-A5B4-3C16A044CB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9E7FF-3538-4F3B-A11F-EA4D71B13C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D0C70-328B-471A-BD08-59224934C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A012-D9E5-4463-A9C7-10C80DD85AA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24DA8-C384-4E54-9F15-0E7B8BF72B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3044-F318-418E-9F51-F77EE40301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14D1-F3D6-4BDA-84B1-D4A167FFAAD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7FD3E-1C95-4926-9A9F-04980E6BFDD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D19F-2924-475D-9B60-3F94AB7DE4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A9663-CB4E-4734-9120-4B2645ADB0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05B0-F683-42EE-A49F-26CCEF109D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271F1-91AB-40E7-B978-52FCC0EE9AA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9637A-4250-4C92-8209-9D05CE354E7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5D57-AC4F-41F3-86E2-5F8708E33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02C9-3D93-485D-92CB-2EB54484AF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26FC-364C-4CCA-B69A-DF4C0C5AC46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C04AA-A68D-4730-969A-FDF238AC86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F088-CC8B-4925-96D9-3E7C1793F8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E24AA-72BE-44F2-9085-FB2710CDCF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60F90-7BB6-485F-AA9F-5515DB42EFC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E7571-9C6B-4E19-A24B-C87CB5FC13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D51CC1-506E-4AB4-AE3B-29B470164C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6E52A-0171-4F5D-B3AA-19AF93710F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460C8-6289-4C86-98BD-0AA11A6B80B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1A710-CB93-4714-803D-83D351330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B297-4944-4655-A39B-0B72D8D248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398F1-05A9-492E-B810-90FD4B14DB1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8E2D0-3902-4C3A-AE41-FA6604FF73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EC1CD-16CA-4299-BAB4-364AD3D2733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0F6DA-7054-4412-8A8B-CD6A58F5F94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96D35-7AA0-4265-B412-F97CA3E7F4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DF22D-311A-4A9D-9E4B-5B01299BA4B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78F5B-A689-407E-B0CB-DC7A1E0910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CA794-423A-4D52-B9A9-895E0AF401F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39BC8-84D4-42B4-B7C7-1B673DB749A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4FFED4-8A95-44D3-8321-7868F8E26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C83A-9DEB-42A9-BFAB-4AC279283D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0DDB01-F8B0-45EE-B9B8-7018D7DA23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BA7C6F-E877-4856-A762-510855B9BB5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9F25E9-80A9-4CE4-B2C0-D031F1CB603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DBE673-DB57-4665-AB4D-A816781984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2709E-E14B-4EA5-A770-B4F26973810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1EB8C3-60EF-424D-B601-CEB0EDE54C4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1E316F-0764-4971-9C34-224C02A6097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BB1B1-0527-4B0C-BB36-2C73BDEDCDE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93D7-4BB5-480B-9B5F-CB592BF4D7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7170-B162-4BAB-BEDB-E7F4906B2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43D5-D83E-42A6-92E7-0F2EBEEA4396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pic>
        <p:nvPicPr>
          <p:cNvPr id="5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235C-89A6-49FF-84B0-D6F3F4F76B5C}" type="slidenum">
              <a:rPr b="1" lang="it-IT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r>
              <a:rPr b="1" lang="it-IT" sz="1400" spc="-1" strike="noStrike">
                <a:solidFill>
                  <a:srgbClr val="ff9900"/>
                </a:solidFill>
                <a:latin typeface="Times New Roman"/>
              </a:rPr>
              <a:t> / 4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sfondo-ppt4b"/>
          <p:cNvPicPr/>
          <p:nvPr/>
        </p:nvPicPr>
        <p:blipFill>
          <a:blip r:embed="rId2"/>
          <a:stretch/>
        </p:blipFill>
        <p:spPr>
          <a:xfrm>
            <a:off x="0" y="0"/>
            <a:ext cx="9144000" cy="504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powerpoint04"/>
          <p:cNvPicPr/>
          <p:nvPr/>
        </p:nvPicPr>
        <p:blipFill>
          <a:blip r:embed="rId3"/>
          <a:stretch/>
        </p:blipFill>
        <p:spPr>
          <a:xfrm>
            <a:off x="395280" y="1989000"/>
            <a:ext cx="2232000" cy="9320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5855400" y="12193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66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2"/>
          </p:nvPr>
        </p:nvSpPr>
        <p:spPr>
          <a:xfrm>
            <a:off x="-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ana Bol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28A-43AD-4C88-B1E6-0CA949C5AB58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4"/>
          </p:nvPr>
        </p:nvSpPr>
        <p:spPr>
          <a:xfrm>
            <a:off x="-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ana Bol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5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04F3-6152-4CD9-976B-1789D7114E0B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6"/>
          </p:nvPr>
        </p:nvSpPr>
        <p:spPr>
          <a:xfrm>
            <a:off x="-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ana Bol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7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E85-34B4-4EC4-BAF8-93EEF58D847E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8"/>
          </p:nvPr>
        </p:nvSpPr>
        <p:spPr>
          <a:xfrm>
            <a:off x="-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ana Bol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9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38E8-FDCD-4926-B57B-46CED7F8A4F5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0"/>
          </p:nvPr>
        </p:nvSpPr>
        <p:spPr>
          <a:xfrm>
            <a:off x="-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ana Bol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1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5D23-8DA0-4B0B-B1B1-1302BF4FDF5A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2"/>
          </p:nvPr>
        </p:nvSpPr>
        <p:spPr>
          <a:xfrm>
            <a:off x="-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ana Bol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F33D-C3BD-4E17-8137-CF68BD9A40D8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down"/>
          <p:cNvPicPr/>
          <p:nvPr/>
        </p:nvPicPr>
        <p:blipFill>
          <a:blip r:embed="rId2"/>
          <a:stretch/>
        </p:blipFill>
        <p:spPr>
          <a:xfrm>
            <a:off x="0" y="6576840"/>
            <a:ext cx="9144000" cy="281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up"/>
          <p:cNvPicPr/>
          <p:nvPr/>
        </p:nvPicPr>
        <p:blipFill>
          <a:blip r:embed="rId3"/>
          <a:stretch/>
        </p:blipFill>
        <p:spPr>
          <a:xfrm>
            <a:off x="0" y="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powerpoint04"/>
          <p:cNvPicPr/>
          <p:nvPr/>
        </p:nvPicPr>
        <p:blipFill>
          <a:blip r:embed="rId4"/>
          <a:stretch/>
        </p:blipFill>
        <p:spPr>
          <a:xfrm>
            <a:off x="7937640" y="162000"/>
            <a:ext cx="1098360" cy="45864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9"/>
          <p:cNvSpPr/>
          <p:nvPr/>
        </p:nvSpPr>
        <p:spPr>
          <a:xfrm>
            <a:off x="5867280" y="838080"/>
            <a:ext cx="3276720" cy="763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6035040" y="708120"/>
            <a:ext cx="30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Lucida Grande"/>
              </a:rPr>
              <a:t>DIPARTIMENTO DI ELETTRONICA E INFORMAZIONE</a:t>
            </a:r>
            <a:endParaRPr b="0" lang="en-US" sz="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4"/>
          </p:nvPr>
        </p:nvSpPr>
        <p:spPr>
          <a:xfrm>
            <a:off x="-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ana Bolc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15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5F5F-AC80-4811-A8AF-3DA782E491B4}" type="slidenum"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7760" y="20574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Lab 3: 30 Ottobre 2017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7005600" cy="20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Inserisci nome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EF2-4482-4D5C-A4A4-DE6AE0A025EE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1523880" y="1087560"/>
            <a:ext cx="60962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Lab 3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Esercizi Lab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9d9d9"/>
                </a:solidFill>
                <a:latin typeface="Lucida Grande"/>
              </a:rPr>
              <a:t>Warm Up (50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Qualche cosa un pò più divertente (85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nserisci nome e copia stringa (15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pia stringa senza strcpy (40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a gara di tuffi, con salvataggio (30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9d9d9"/>
                </a:solidFill>
                <a:latin typeface="Lucida Grande"/>
              </a:rPr>
              <a:t>Altri exe</a:t>
            </a:r>
            <a:r>
              <a:rPr b="0" lang="en-US" sz="2800" spc="-1" strike="noStrike">
                <a:solidFill>
                  <a:srgbClr val="d9d9d9"/>
                </a:solidFill>
                <a:latin typeface="Lucida Grande"/>
              </a:rPr>
              <a:t>… (105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C214-276F-4C4D-97A0-F8288BDA264F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5D1-C98A-4D31-B55F-636C4CD80E0B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23360" y="995040"/>
            <a:ext cx="852660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tr1[32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str1 ha spazio per 32 char.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str2[64];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str2 ha spazio per 64 char.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inizializza str1 con la stringa "alfa"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cpy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tr1, "alfa");   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str1 contiene "alfa" 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copia str1 in str2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cpy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tr2, str1);     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str2 contiene "alfa" 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lunghezza di str1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x =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str1);       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x assume valore 4    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scrivi str1 su standard output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"%s", str1);     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scrive str1 su stdout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leggi str1 da standard input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"%s", str1);       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str1 </a:t>
            </a:r>
            <a:r>
              <a:rPr b="1" lang="it-IT" sz="2000" spc="-1" strike="noStrike">
                <a:solidFill>
                  <a:srgbClr val="33cc33"/>
                </a:solidFill>
                <a:latin typeface="Times New Roman"/>
              </a:rPr>
              <a:t>“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riceve</a:t>
            </a:r>
            <a:r>
              <a:rPr b="1" lang="it-IT" sz="2000" spc="-1" strike="noStrike">
                <a:solidFill>
                  <a:srgbClr val="33cc33"/>
                </a:solidFill>
                <a:latin typeface="Times New Roman"/>
              </a:rPr>
              <a:t>”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 da stdin </a:t>
            </a:r>
            <a:r>
              <a:rPr b="1" lang="it-IT" sz="20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0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Operazioni su stringhe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D89E-FFEB-4069-A6D3-BFD1D60805A6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102384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str1[32]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str2[64]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("%s", str1)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&gt; ciao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 ora str1 contiene "ciao" 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cpy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(str2, str1);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 str2 riceve "ciao"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val =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(str2);  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 val  = 4          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("%s\n", str2);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&gt; ciao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 stampa "ciao" </a:t>
            </a:r>
            <a:r>
              <a:rPr b="1" lang="it-IT" sz="2400" spc="-1" strike="noStrike">
                <a:solidFill>
                  <a:srgbClr val="33cc33"/>
                </a:solidFill>
                <a:latin typeface="Symbol"/>
                <a:ea typeface="Symbol"/>
              </a:rPr>
              <a:t></a:t>
            </a:r>
            <a:r>
              <a:rPr b="1" lang="it-IT" sz="2400" spc="-1" strike="noStrike">
                <a:solidFill>
                  <a:srgbClr val="33cc33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Attenzione:    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trlen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("")</a:t>
            </a: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   vale 0 !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Operazioni su stringhe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A4D9-190F-46E2-A6BE-1961A5C4730F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Grande"/>
              </a:rPr>
              <a:t>Inserisci nome con copia stringa</a:t>
            </a:r>
            <a:endParaRPr b="1" lang="en-US" sz="32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Si scriva un programma in C che mostri a video la scritta: “Ciao Nome”, dov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Ciao” è stato inserito in una stringa di lunghezza “non definita a priori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Nome” è un dato inserito dall’utent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Si supponga che possa essere salvato in una stringa di 10 caratter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Grande"/>
              </a:rPr>
              <a:t>Nome deve essere salvato in una stringa “stringa1” e copiano in una seconda stringa “stringa3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Grande"/>
              </a:rPr>
              <a:t>Inserisci nome con copia stringa</a:t>
            </a:r>
            <a:endParaRPr b="1" lang="en-US" sz="32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D98-FD75-4B96-A0D7-E05C463A225D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1720800" y="965160"/>
            <a:ext cx="57024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7B18-AB25-4213-8216-BDF9E467C0CC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3520" y="972720"/>
            <a:ext cx="821844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Il nome dell’array rappresenta l’indirizzo del suo primo elemento, perciò quando ci si vuole riferire all’intero array nella</a:t>
            </a:r>
            <a:r>
              <a:rPr b="0" lang="it-IT" sz="26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non si mette il simbolo &amp;!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canf("%s", stringa);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Questa </a:t>
            </a:r>
            <a:r>
              <a:rPr b="0" lang="it-IT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 legge in input i caratteri fino a quando trova il carattere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blank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 (lo spazio), o l’invi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Perciò se nel buffer si trova una stringa “troppo lunga”, essa è memorizzata oltre la fine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Lucida Grande"/>
              </a:rPr>
              <a:t>array !!! Ed è un errore grave !!!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  <a:ea typeface="Times New Roman"/>
              </a:rPr>
              <a:t>Particolarità delle stringhe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CC7D-9589-4D69-B621-7B70A529BBFB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opia stringa senza strcpy!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Si scriva un programma in C come in “inserisci nome con copia stringa” ma che </a:t>
            </a:r>
            <a:r>
              <a:rPr b="1" lang="it-IT" sz="3200" spc="-1" strike="noStrike">
                <a:solidFill>
                  <a:srgbClr val="000000"/>
                </a:solidFill>
                <a:latin typeface="Lucida Grande"/>
              </a:rPr>
              <a:t>non faccia uso di strcp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Si usino dei cicli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Copia stringa senza strcpy!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8EF-FD61-4211-A4AA-40A86084A6B7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264960" y="1058760"/>
            <a:ext cx="3646800" cy="54468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"/>
          <p:cNvPicPr/>
          <p:nvPr/>
        </p:nvPicPr>
        <p:blipFill>
          <a:blip r:embed="rId2"/>
          <a:srcRect l="0" t="60155" r="0" b="18858"/>
          <a:stretch/>
        </p:blipFill>
        <p:spPr>
          <a:xfrm>
            <a:off x="3832200" y="2736720"/>
            <a:ext cx="52689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Gara di tuffi, </a:t>
            </a:r>
            <a:r>
              <a:rPr b="1" i="1" lang="en-US" sz="3600" spc="-1" strike="noStrike">
                <a:solidFill>
                  <a:srgbClr val="003366"/>
                </a:solidFill>
                <a:latin typeface="Lucida Grande"/>
              </a:rPr>
              <a:t>con salvataggio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Problema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 hanno10 giudici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1 giudice = 1 vot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 vogliono memorizzare i 10 voti, per poterli rileggere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Ogni voto è nell’itervallo 0-10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Dato un tuffo, calcolare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La media dei vot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Il voto massimo ed il voto minimo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F22F-4861-4E5F-9DDB-760F861F3CA1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Lab 3: Obiettivi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11430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rray e strut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5960-5F62-4CA3-8EE3-5C65B8C52FDC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Grande"/>
              </a:rPr>
              <a:t>Come </a:t>
            </a:r>
            <a:r>
              <a:rPr b="1" i="1" lang="en-US" sz="2800" spc="-1" strike="noStrike">
                <a:solidFill>
                  <a:srgbClr val="003366"/>
                </a:solidFill>
                <a:latin typeface="Lucida Grande"/>
              </a:rPr>
              <a:t>salvare</a:t>
            </a:r>
            <a:r>
              <a:rPr b="1" lang="en-US" sz="2800" spc="-1" strike="noStrike">
                <a:solidFill>
                  <a:srgbClr val="003366"/>
                </a:solidFill>
                <a:latin typeface="Lucida Grande"/>
              </a:rPr>
              <a:t> i voti...</a:t>
            </a:r>
            <a:endParaRPr b="1" lang="en-US" sz="28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D146-FBCE-448F-A19A-7D91158A39A5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1868400" y="963720"/>
            <a:ext cx="540720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Lab 3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Esercizi Lab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9d9d9"/>
                </a:solidFill>
                <a:latin typeface="Lucida Grande"/>
              </a:rPr>
              <a:t>Warm Up (50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Lucida Grande"/>
              </a:rPr>
              <a:t>Qualche cosa un pò più divertente (85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Altri ex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… (105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umeri complessi (40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chedina (65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alindr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76F-0FF7-48BF-8E71-AA3A93CF5C6C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Numeri complessi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L’utente inserisce due numeri complessi (parte reale e parte immaginaria) e l’elaboratore esegue l’operazione di somma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Grande"/>
              </a:rPr>
              <a:t>Es: 3+4i + 5-6i = 8-2i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Il programma chiede all’utente se vuole calcolare un’altra somma. Se l’utente inserisce il carattere ‘q’ il programma termina, altrimenti ricomincia daccapo.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itle 4"/>
          <p:cNvSpPr/>
          <p:nvPr/>
        </p:nvSpPr>
        <p:spPr>
          <a:xfrm>
            <a:off x="6094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Trebuchet MS"/>
              </a:rPr>
              <a:t>Numeri complessi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17" name="Picture 5" descr=""/>
          <p:cNvPicPr/>
          <p:nvPr/>
        </p:nvPicPr>
        <p:blipFill>
          <a:blip r:embed="rId1"/>
          <a:stretch/>
        </p:blipFill>
        <p:spPr>
          <a:xfrm>
            <a:off x="57240" y="950760"/>
            <a:ext cx="4833720" cy="55548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0" t="0" r="52381" b="64131"/>
          <a:stretch/>
        </p:blipFill>
        <p:spPr>
          <a:xfrm>
            <a:off x="4587840" y="1217520"/>
            <a:ext cx="4248360" cy="3676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5702" t="36644" r="30238" b="31759"/>
          <a:stretch/>
        </p:blipFill>
        <p:spPr>
          <a:xfrm>
            <a:off x="3637080" y="1584360"/>
            <a:ext cx="5413320" cy="30668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4"/>
          <a:srcRect l="5318" t="67990" r="3078" b="9758"/>
          <a:stretch/>
        </p:blipFill>
        <p:spPr>
          <a:xfrm>
            <a:off x="2540160" y="1190520"/>
            <a:ext cx="65754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11"/>
          <p:cNvGrpSpPr/>
          <p:nvPr/>
        </p:nvGrpSpPr>
        <p:grpSpPr>
          <a:xfrm>
            <a:off x="276120" y="1486080"/>
            <a:ext cx="8734680" cy="2958840"/>
            <a:chOff x="276120" y="1486080"/>
            <a:chExt cx="8734680" cy="2958840"/>
          </a:xfrm>
        </p:grpSpPr>
        <p:pic>
          <p:nvPicPr>
            <p:cNvPr id="522" name="Picture 9" descr=""/>
            <p:cNvPicPr/>
            <p:nvPr/>
          </p:nvPicPr>
          <p:blipFill>
            <a:blip r:embed="rId5"/>
            <a:stretch/>
          </p:blipFill>
          <p:spPr>
            <a:xfrm>
              <a:off x="276120" y="1486080"/>
              <a:ext cx="2985840" cy="15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10" descr=""/>
            <p:cNvPicPr/>
            <p:nvPr/>
          </p:nvPicPr>
          <p:blipFill>
            <a:blip r:embed="rId6"/>
            <a:stretch/>
          </p:blipFill>
          <p:spPr>
            <a:xfrm>
              <a:off x="4056120" y="1854720"/>
              <a:ext cx="4954680" cy="259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Schedine: problema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Il programma, partendo da un array di dimensione prefissata che contiene in ogni cella: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data della giocata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colonna con i tredici segni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Copia in un altro vettore solo le giocate dell’anno 2010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Quindi, visualizza queste giocate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094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Schedine: dati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7" name="Picture 5" descr=""/>
          <p:cNvPicPr/>
          <p:nvPr/>
        </p:nvPicPr>
        <p:blipFill>
          <a:blip r:embed="rId1"/>
          <a:stretch/>
        </p:blipFill>
        <p:spPr>
          <a:xfrm>
            <a:off x="1665360" y="993600"/>
            <a:ext cx="581328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2"/>
          <p:cNvSpPr/>
          <p:nvPr/>
        </p:nvSpPr>
        <p:spPr>
          <a:xfrm>
            <a:off x="6094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Schedine: inserimento dati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29" name="Picture 5" descr=""/>
          <p:cNvPicPr/>
          <p:nvPr/>
        </p:nvPicPr>
        <p:blipFill>
          <a:blip r:embed="rId1"/>
          <a:stretch/>
        </p:blipFill>
        <p:spPr>
          <a:xfrm>
            <a:off x="0" y="2847960"/>
            <a:ext cx="9144000" cy="327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"/>
          <p:cNvPicPr/>
          <p:nvPr/>
        </p:nvPicPr>
        <p:blipFill>
          <a:blip r:embed="rId2"/>
          <a:srcRect l="0" t="35389" r="61926" b="37344"/>
          <a:stretch/>
        </p:blipFill>
        <p:spPr>
          <a:xfrm>
            <a:off x="6475320" y="1047600"/>
            <a:ext cx="2368800" cy="1603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7" descr=""/>
          <p:cNvPicPr/>
          <p:nvPr/>
        </p:nvPicPr>
        <p:blipFill>
          <a:blip r:embed="rId3"/>
          <a:srcRect l="0" t="63959" r="44700" b="14281"/>
          <a:stretch/>
        </p:blipFill>
        <p:spPr>
          <a:xfrm>
            <a:off x="3273480" y="1247760"/>
            <a:ext cx="3355920" cy="12492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"/>
          <p:cNvPicPr/>
          <p:nvPr/>
        </p:nvPicPr>
        <p:blipFill>
          <a:blip r:embed="rId4"/>
          <a:srcRect l="3436" t="87552" r="43806" b="6224"/>
          <a:stretch/>
        </p:blipFill>
        <p:spPr>
          <a:xfrm>
            <a:off x="128520" y="1655640"/>
            <a:ext cx="306864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6094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Schedine: copia valori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4" name="Picture 5" descr=""/>
          <p:cNvPicPr/>
          <p:nvPr/>
        </p:nvPicPr>
        <p:blipFill>
          <a:blip r:embed="rId1"/>
          <a:srcRect l="0" t="0" r="46195" b="63605"/>
          <a:stretch/>
        </p:blipFill>
        <p:spPr>
          <a:xfrm>
            <a:off x="628560" y="2127240"/>
            <a:ext cx="77662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6094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Schedine: stampa dei risultati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36" name="Picture 5" descr=""/>
          <p:cNvPicPr/>
          <p:nvPr/>
        </p:nvPicPr>
        <p:blipFill>
          <a:blip r:embed="rId1"/>
          <a:srcRect l="0" t="36404" r="0" b="0"/>
          <a:stretch/>
        </p:blipFill>
        <p:spPr>
          <a:xfrm>
            <a:off x="0" y="2233440"/>
            <a:ext cx="917244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Palindroma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440" y="1143000"/>
            <a:ext cx="8918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L’utente inserisce un(a) numero intero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Numero intero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String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Il programma controlla se valore inserito è Palindroma.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ovvero se “rigirandola” non cambia, es. “ossesso”, “56765” sono palindr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Esempi di frasi palindrome: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I verbi brevi (“iverbibrevi”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Aceto nell'enoteca (“acetonellenoteca”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I topi non avevano nipoti (“itopinonavevanonipoti”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Lab 3: Agenda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Lucida Grande"/>
              </a:rPr>
              <a:t>Esercizi Lab3</a:t>
            </a:r>
            <a:endParaRPr b="0" lang="en-US" sz="27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Warm Up (50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Max, min e media (10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Sequenza di numeri (20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Inserisci nome (20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Qualche cosa un pò più divertente (85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serisci nome e copia stringa (15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Copia stringa senza strcpy (40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 gara di tuffi, con salvataggio (30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Altri ex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… (105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Numeri complessi (40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chedina (65’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69D5-0299-4841-8274-A8F82A74F28E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6094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Palindroma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0" name="Picture 1" descr=""/>
          <p:cNvPicPr/>
          <p:nvPr/>
        </p:nvPicPr>
        <p:blipFill>
          <a:blip r:embed="rId1"/>
          <a:stretch/>
        </p:blipFill>
        <p:spPr>
          <a:xfrm>
            <a:off x="171360" y="1060560"/>
            <a:ext cx="5742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609480" y="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Palindroma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42" name="Picture 1" descr=""/>
          <p:cNvPicPr/>
          <p:nvPr/>
        </p:nvPicPr>
        <p:blipFill>
          <a:blip r:embed="rId1"/>
          <a:stretch/>
        </p:blipFill>
        <p:spPr>
          <a:xfrm>
            <a:off x="609480" y="1085760"/>
            <a:ext cx="653436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Fonti per lo studio + Credits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nti per lo studi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ヒラギノ角ゴ Pro W3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Lucida Grande"/>
              </a:rPr>
              <a:t>Informatica arte e mestier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S. Ceri, D. Mandrioli, L. Sbattella, McGrawHil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apitolo 5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F38D-0067-41F5-A8AD-799FB789AEFF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Lab 3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Esercizi Lab3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Warm Up (50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Max, min e media (10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Sequenza di numeri (20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Inserisci nome (20’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Lucida Grande"/>
              </a:rPr>
              <a:t>Qualche cosa un pò più divertente (85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9d9d9"/>
                </a:solidFill>
                <a:latin typeface="Lucida Grande"/>
              </a:rPr>
              <a:t>Altri exe</a:t>
            </a:r>
            <a:r>
              <a:rPr b="0" lang="en-US" sz="2800" spc="-1" strike="noStrike">
                <a:solidFill>
                  <a:srgbClr val="d9d9d9"/>
                </a:solidFill>
                <a:latin typeface="Lucida Grande"/>
              </a:rPr>
              <a:t>… (105’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DBE-AAE2-4F7B-9B5F-ADB751555132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C7D7-9FB0-4127-AA7F-2168DA398EB1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85800" y="10332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Si scriva un programma in C che, dato un vettore di 10 numeri, interi, calcoli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Il valore massimo, il minimo e la medi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Max, min e media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D4EC-CBD1-404E-9165-E9627E7B0DFC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Max, min e media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"/>
          <a:stretch/>
        </p:blipFill>
        <p:spPr>
          <a:xfrm>
            <a:off x="2125800" y="1042920"/>
            <a:ext cx="5138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1C9C-9C2E-4B43-9C24-75DC31497113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Lucida Grande"/>
              </a:rPr>
              <a:t>Sequenza di interi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Si scriva un programma in C che mostri una sequenza di 10 interi nell'</a:t>
            </a:r>
            <a:r>
              <a:rPr b="1" lang="it-IT" sz="3200" spc="-1" strike="noStrike">
                <a:solidFill>
                  <a:srgbClr val="000000"/>
                </a:solidFill>
                <a:latin typeface="Lucida Grande"/>
              </a:rPr>
              <a:t>ordine inverso </a:t>
            </a: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rispetto a quello con cui è stata introdotta dall’uten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Grande"/>
              </a:rPr>
              <a:t>Sequenza: </a:t>
            </a:r>
            <a:r>
              <a:rPr b="1" i="1" lang="en-US" sz="3200" spc="-1" strike="noStrike">
                <a:solidFill>
                  <a:srgbClr val="003366"/>
                </a:solidFill>
                <a:latin typeface="Lucida Grande"/>
              </a:rPr>
              <a:t>possibile soluzione</a:t>
            </a:r>
            <a:endParaRPr b="1" lang="en-US" sz="32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77C-2A5C-4F89-8485-8AFFCC350A31}" type="slidenum">
              <a:rPr b="1" lang="en-US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272880" y="1200240"/>
            <a:ext cx="86551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4121-01AE-4FFD-909C-6006F9480E95}" type="slidenum">
              <a:rPr b="1" lang="it-IT" sz="1400" spc="-1" strike="noStrike">
                <a:solidFill>
                  <a:srgbClr val="ff9900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Lucida Grande"/>
              </a:rPr>
              <a:t>Inserisci nome</a:t>
            </a:r>
            <a:endParaRPr b="1" lang="en-US" sz="3600" spc="-1" strike="noStrike">
              <a:solidFill>
                <a:srgbClr val="003366"/>
              </a:solidFill>
              <a:latin typeface="Lucida Gran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Lucida Grande"/>
              </a:rPr>
              <a:t>Si scriva un programma in C che mostri a video la scritta: “Ciao Nome”, dov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Ciao” è stato inserito in una stringa di lunghezza “non definita a priori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Lucida Grande"/>
              </a:rPr>
              <a:t>Nome” è un dato inserito dall’utente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Grande"/>
              </a:rPr>
              <a:t>Si supponga che possa essere salvato in una stringa di 10 caratteri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9:29:21Z</dcterms:created>
  <dc:creator>ABB SACE</dc:creator>
  <dc:description/>
  <dc:language>en-US</dc:language>
  <cp:lastModifiedBy>.</cp:lastModifiedBy>
  <cp:lastPrinted>2011-01-18T12:16:09Z</cp:lastPrinted>
  <dcterms:modified xsi:type="dcterms:W3CDTF">2017-10-27T05:21:53Z</dcterms:modified>
  <cp:revision>707</cp:revision>
  <dc:subject/>
  <dc:title>Operating System</dc:title>
</cp:coreProperties>
</file>